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DA4-BA15-49E5-AFB5-85EAAE80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181-4790-405E-8743-CDE70A2C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8D3-DD39-4368-AA2C-6FB705B8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664-2913-4121-824F-E98F56D7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AE8-85D7-46E4-9643-C3E830E2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22C-5926-4C38-A494-9D65785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BD1-87E2-4E7F-8ABC-B3B0FA2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C87-8E48-4148-9A5D-94655C1D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498-5C64-407E-A47F-38AE118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0A4-B386-4952-8AA3-AF668A87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2E3-EA06-49E7-96A5-930AE1C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962-0DD9-4359-AAB2-D1A8B1B6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D8E2-8311-47B6-A6F3-E571A32A6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minster Theater Arts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1 Season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nsas City, Missou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ittl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TAC Detai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ed in 19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ed by John C. and Harriet S. Bru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 years of Broadway experience between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uin The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oor main theater that seats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le Leaf The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c open-air performance theater that seats 15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1 Sea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 Mus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g and I” (March &amp; Apr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S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Pacific” (Ju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t Your Wagon” (Augu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ta” (Septem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Mus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maker” (Novem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TAC in the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sted over 30 non-WTAC events at the WTAC facility i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ouri State teachers c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nsas City Days (local festiv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ughters of America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itment to Excell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3:43:08Z</dcterms:created>
  <dc:creator>David Beskeen</dc:creator>
  <dc:description/>
  <dc:language>en-US</dc:language>
  <cp:lastModifiedBy>Phil Schneider</cp:lastModifiedBy>
  <dcterms:modified xsi:type="dcterms:W3CDTF">2012-05-09T09:45:15Z</dcterms:modified>
  <cp:revision>8</cp:revision>
  <dc:subject/>
  <dc:title>Westminster Theater Arts Center</dc:title>
</cp:coreProperties>
</file>